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110-574C-461E-A36E-04912671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76A-8168-46A6-BF39-924C9E9F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002-7B88-4D29-9A1B-97210CCC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5D3-CFA0-436D-B763-AC796A98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56EA-8232-4C63-8398-201E4C6A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6992-A176-4896-B46C-5B8C417B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D917-1881-4868-9167-C760D084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B632-E16C-4B30-A4E6-5DEEC109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DBD3-137F-47CB-8DE1-B184FFC5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22B6-9D06-4E69-9F13-74AA68D8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9441-0E80-4E8D-8F23-020B171F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EB1-80E9-46A9-94CB-43884020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8116-76A7-4097-8E97-6578560F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1378-4471-4F5A-B1F8-8C56A2EA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4597-7967-42CF-9431-1A5536E6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A250-D439-42CD-88C6-3989B158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257F-40C1-4BC5-8576-F5093F0E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C3B-1553-4E11-B67C-91C943AC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77F-D2C2-40E1-AC6B-C6A087D2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CCA-2F80-44B2-9A04-F005734A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F1F-92C7-465D-8DE6-97DD84DF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C39-B22D-43FD-A891-1C6796E9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310-612C-451E-A21A-7B312C59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864-A7D0-4D13-BDD6-56D278F3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EE66-1B77-4046-AB24-F569B35DE1F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4E47-4675-4699-AEBD-8A63520C89D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u 1" descr=""/>
          <p:cNvPicPr/>
          <p:nvPr/>
        </p:nvPicPr>
        <p:blipFill>
          <a:blip r:embed="rId2"/>
          <a:stretch/>
        </p:blipFill>
        <p:spPr>
          <a:xfrm>
            <a:off x="493560" y="103680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28840" y="2428560"/>
            <a:ext cx="6400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Optica Geometri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CasetăText 3"/>
          <p:cNvSpPr/>
          <p:nvPr/>
        </p:nvSpPr>
        <p:spPr>
          <a:xfrm>
            <a:off x="224280" y="6000840"/>
            <a:ext cx="19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Disciplina–Fizic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Clasa: VI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CasetăText 4"/>
          <p:cNvSpPr/>
          <p:nvPr/>
        </p:nvSpPr>
        <p:spPr>
          <a:xfrm>
            <a:off x="488520" y="4287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Colegiul Tehnic Turd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CasetăText 5"/>
          <p:cNvSpPr/>
          <p:nvPr/>
        </p:nvSpPr>
        <p:spPr>
          <a:xfrm>
            <a:off x="6002640" y="60721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Profesor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Pop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oan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999880" y="3929040"/>
            <a:ext cx="254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Book Antiqua"/>
              </a:rPr>
              <a:t>Va multumesc!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u 1" descr=""/>
          <p:cNvPicPr/>
          <p:nvPr/>
        </p:nvPicPr>
        <p:blipFill>
          <a:blip r:embed="rId2"/>
          <a:stretch/>
        </p:blipFill>
        <p:spPr>
          <a:xfrm>
            <a:off x="420840" y="1700280"/>
            <a:ext cx="82422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u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imagi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Tabel cu intrebarile che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CasetăText 3"/>
          <p:cNvSpPr/>
          <p:nvPr/>
        </p:nvSpPr>
        <p:spPr>
          <a:xfrm>
            <a:off x="5248800" y="592920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Plan unitate de invatar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xemplu din perspectiva elevulu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u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Adresa Wiki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Sarcinile………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CasetăText 3"/>
          <p:cNvSpPr/>
          <p:nvPr/>
        </p:nvSpPr>
        <p:spPr>
          <a:xfrm>
            <a:off x="6849360" y="55720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valuare initial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u 1" descr=""/>
          <p:cNvPicPr/>
          <p:nvPr/>
        </p:nvPicPr>
        <p:blipFill>
          <a:blip r:embed="rId2"/>
          <a:stretch/>
        </p:blipFill>
        <p:spPr>
          <a:xfrm>
            <a:off x="493560" y="341280"/>
            <a:ext cx="824256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14240" y="157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Adresa Blog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Sarcinile………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CasetăText 3"/>
          <p:cNvSpPr/>
          <p:nvPr/>
        </p:nvSpPr>
        <p:spPr>
          <a:xfrm>
            <a:off x="5761800" y="507204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valuare formativ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u 1" descr=""/>
          <p:cNvPicPr/>
          <p:nvPr/>
        </p:nvPicPr>
        <p:blipFill>
          <a:blip r:embed="rId2"/>
          <a:stretch/>
        </p:blipFill>
        <p:spPr>
          <a:xfrm>
            <a:off x="317520" y="268200"/>
            <a:ext cx="860112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Evaluare initial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KW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Evaluare formativ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Chestiona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Gril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Fise de activit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Evaluare sumativ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Portofoli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Test de evalua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Book Antiqua"/>
              </a:rPr>
              <a:t>Prezentare grafica (Criterii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u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Progra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u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4:46:44Z</dcterms:created>
  <dc:creator>user</dc:creator>
  <dc:description/>
  <dc:language>en-US</dc:language>
  <cp:lastModifiedBy>_</cp:lastModifiedBy>
  <dcterms:modified xsi:type="dcterms:W3CDTF">2010-01-18T15:00:59Z</dcterms:modified>
  <cp:revision>4</cp:revision>
  <dc:subject/>
  <dc:title>Intel Teach turda</dc:title>
</cp:coreProperties>
</file>